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1D7-7AD8-4B8C-9501-4473F5FC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463-0170-494F-95D3-1628353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ACA-759A-43A8-8AE6-C29D359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7B5-8DE2-4F27-A17A-F72BCA16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5763-9F3C-46EE-B966-660671E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986-F282-40C8-A19C-145210EB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DFC8-EAC4-424C-BCDF-91DA831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0016-BAFF-4C60-A620-DCF0B23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CD9F-31EB-4E6C-A238-2FA8200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F57C-3A94-43A6-A73B-C66D27A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9459-0FF8-4F99-B4E8-FD19C9E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E6B-7286-4054-9DDD-AFEF28D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4E5-F08F-435A-AE79-02D63BB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D821-9F58-48E8-AAE7-4C6E5DE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ABFC-7CF5-4AA1-A813-07DBD93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2810-2D44-4AEB-A136-A3BFA2A7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E24A-A4A4-4B24-AF5A-8F55DD1B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BD3-703D-477C-AC2F-304E9556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528-921E-4828-9C6A-70812B4E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7CC-E0A6-49C6-8C49-60761F2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75F-428B-4369-9B1B-DCF8A72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840-C1AD-4DE4-B9F3-2910E27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4AA-1FB3-47F2-81BB-DFCA712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751-D0F3-40B9-928E-B2AE5CD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2AF-9789-49D9-80E8-EEA9509BF989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3E9-B077-4E35-B993-9C2D0EC9EDDE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acultad de Cs. Físicas y Matemática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Magíster en Gestión de Operacione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Taller de Preparación de T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racterización del efecto en las ventas de la aplicación de distintos actividades promociona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486400"/>
            <a:ext cx="3429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Alumno: Blas E. Duarte Alleuy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Profesor Guía: Máximo Bosch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Marcel Goic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248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Taller de Preparación de Tesi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IN79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47840" y="609480"/>
          <a:ext cx="7617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609480"/>
                    <a:ext cx="761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3048120"/>
          <a:ext cx="7772400" cy="3087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upones de Descu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Reducciones de Prec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nus Pa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(2x1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ampl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Amar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Lealt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uest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emi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orteos y Concurs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76212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Tipos de Promocion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2819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8769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962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962520"/>
            <a:ext cx="259056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88620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596-A3F0-4975-AEC4-78F664CF0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Book Antiqua"/>
              </a:rPr>
              <a:t>Para modelar los efectos de las promociones se debe determin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Objetivo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Características de los diferentes tipos de promociones y el efecto de sus significados sobre los 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Efectividad de las diferentes promo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Rango de las decisione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690-4E91-4DE1-8DD4-8EFB00DE9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Objetivos del Estu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Gener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Clasificar los distintos tipos de promociones de acuerdo a su objetivo e impac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Elaborar un modelo descriptivo que permita cuantificar (y predecir) el impacto de los distintos tipos de promo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800600"/>
            <a:ext cx="1160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E08-D634-4424-B101-8600D2692F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09480" y="1828800"/>
            <a:ext cx="746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Búsqueda de Modelos de Respuesta de Clientes ante promocion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Categorización de los tipos de promociones                         desarrolladas en la empres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B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úsqueda Bibliográfica acerca de medición de impacto de las promociones en las venta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Análisis de Caso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042-079E-4E64-8159-3200FC712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sponder a los objetiv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los tipos de promociones que se desarrollan dentro de la empresa y sus efec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parámetros de medición de efectividad de las promociones en base a los resultados en las vent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9A5-27D5-41E5-A922-969E68903C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Bibliograf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A Decision Support System for Planning Manufacturers Sales Promotion Calendars”. </a:t>
            </a: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Silva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-Risso, J., Bucklin, R. Morrison, D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The Category-Demand Effects of Price Promotion”. 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Nijs, V., Dekimpe, M., Steenkamp, J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Presentación “Teoría de Promociones”, Bosch, 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1923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30E-FEBF-44F8-8A1E-190D95B7F1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¿?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276720" y="609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1CC-D301-4F9D-9A7F-724753CC5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otiv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Objetivos del Estud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etodolog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Resultados Esper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lan de Trabaj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Bibliograf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72200" y="4800600"/>
            <a:ext cx="274968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EDF-7E58-47C8-A940-6BB6D2207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para el consumidor se usa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755-8136-4931-99A8-6BE79603FD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Book Antiqua"/>
              </a:rPr>
              <a:t>Valor Agregado a la marca diseñada para animar y acelerar una respuesta del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646280" cy="134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4876920"/>
            <a:ext cx="2057400" cy="106668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029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adena de Suministro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1055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1055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CF7-D3EC-4376-9BAA-6BC9464AB5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9051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de Venta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14600"/>
            <a:ext cx="20574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FABRICANT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428920"/>
            <a:ext cx="22860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ETAILE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4" name=""/>
          <p:cNvCxnSpPr>
            <a:stCxn id="162" idx="3"/>
            <a:endCxn id="163" idx="1"/>
          </p:cNvCxnSpPr>
          <p:nvPr/>
        </p:nvCxnSpPr>
        <p:spPr>
          <a:xfrm flipV="1">
            <a:off x="2757240" y="2961720"/>
            <a:ext cx="3020040" cy="133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228600" y="4952880"/>
            <a:ext cx="243828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Consumido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464832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Retail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5410080"/>
            <a:ext cx="1981080" cy="993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NSUMIDO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8" name=""/>
          <p:cNvCxnSpPr>
            <a:stCxn id="162" idx="2"/>
            <a:endCxn id="167" idx="1"/>
          </p:cNvCxnSpPr>
          <p:nvPr/>
        </p:nvCxnSpPr>
        <p:spPr>
          <a:xfrm>
            <a:off x="1714680" y="3449160"/>
            <a:ext cx="1700640" cy="24217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2"/>
            <a:endCxn id="167" idx="3"/>
          </p:cNvCxnSpPr>
          <p:nvPr/>
        </p:nvCxnSpPr>
        <p:spPr>
          <a:xfrm flipH="1">
            <a:off x="5424120" y="3508200"/>
            <a:ext cx="1510560" cy="23630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graphicFrame>
        <p:nvGraphicFramePr>
          <p:cNvPr id="17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7B9-3BF8-4B31-B753-B908653BC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Sí, factor principal en presupuesto de Market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Permite atraer a los usuarios ajenos a la marca hacia la mar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B9F-B1B3-4520-A07E-7241C562B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 del Marketing Mix (Complement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Dinámica de Respuesta de Consumi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e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ortamiento del Ret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DD1-45D8-4A3B-B8C8-A3D4FE624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se usan para el consumid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s una muy buena pregunta.....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B57-EE6B-44B5-8840-1824831E10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</a:t>
            </a:r>
            <a:r>
              <a:rPr b="0" lang="es-ES" sz="2800" spc="-1" strike="noStrike">
                <a:solidFill>
                  <a:srgbClr val="eaeaea"/>
                </a:solidFill>
                <a:latin typeface="Book Antiqua"/>
              </a:rPr>
              <a:t> de las Promocion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delantar Compr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830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umentar Consum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4641120" y="53640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ambiarse de 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rc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38280"/>
            <a:ext cx="45720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COMUNIC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CENTIVO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VIT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4EE-CA85-4532-A025-11C630AD7B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43:12Z</dcterms:created>
  <dc:creator>Blas</dc:creator>
  <dc:description/>
  <dc:language>en-US</dc:language>
  <cp:lastModifiedBy>julie lagos</cp:lastModifiedBy>
  <dcterms:modified xsi:type="dcterms:W3CDTF">2004-10-22T14:09:39Z</dcterms:modified>
  <cp:revision>4</cp:revision>
  <dc:subject/>
  <dc:title>Universidad de Chile Facultad de Cs. Físicas y Matemáticas Magíster en Gestión de Operaciones Taller de Preparación de Tesis</dc:title>
</cp:coreProperties>
</file>